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327-0810-4161-A18C-CE14C8A0A4F6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egnaposto piè di pagin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A88-69DA-47F3-A30D-B2BC1B8E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F08-8561-4995-B6BC-8A82FA0E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469-2190-4BDF-897E-B4FABF50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517-BA74-41CE-9CE0-8E0AACC9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FC4-FD37-417C-B1B9-638EB0E2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424-85EE-43A5-B54D-D18DB54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086-C614-47C3-961E-B7EB951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F59-CDC9-4FEF-9E5B-5B39CA0B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85B-8F35-4BC7-9BAC-FC1C947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880-F0CA-41F4-82E3-8A02FB7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B2D-1956-47A7-9D54-F21BE9B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970-3D10-4D62-93B3-F417687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101-454C-4377-BAF0-D52164EF36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395520" y="0"/>
            <a:ext cx="5748480" cy="4470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611360" y="1233360"/>
            <a:ext cx="1784160" cy="3237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5357880" y="771480"/>
            <a:ext cx="3286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 4" descr="HIS-PORTAL.jpg"/>
          <p:cNvPicPr/>
          <p:nvPr/>
        </p:nvPicPr>
        <p:blipFill>
          <a:blip r:embed="rId2">
            <a:grayscl/>
          </a:blip>
          <a:stretch/>
        </p:blipFill>
        <p:spPr>
          <a:xfrm>
            <a:off x="6718320" y="1109520"/>
            <a:ext cx="657360" cy="57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4"/>
          <p:cNvSpPr/>
          <p:nvPr/>
        </p:nvSpPr>
        <p:spPr>
          <a:xfrm>
            <a:off x="5630760" y="2008080"/>
            <a:ext cx="1204920" cy="12970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4"/>
          <p:cNvSpPr/>
          <p:nvPr/>
        </p:nvSpPr>
        <p:spPr>
          <a:xfrm>
            <a:off x="5826240" y="777960"/>
            <a:ext cx="81756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4"/>
          <p:cNvSpPr/>
          <p:nvPr/>
        </p:nvSpPr>
        <p:spPr>
          <a:xfrm>
            <a:off x="6683400" y="777960"/>
            <a:ext cx="80784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4"/>
          <p:cNvSpPr/>
          <p:nvPr/>
        </p:nvSpPr>
        <p:spPr>
          <a:xfrm>
            <a:off x="7534440" y="777960"/>
            <a:ext cx="1038240" cy="116352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afik 18" descr="wohnung1.gif"/>
          <p:cNvPicPr/>
          <p:nvPr/>
        </p:nvPicPr>
        <p:blipFill>
          <a:blip r:embed="rId3">
            <a:grayscl/>
          </a:blip>
          <a:stretch/>
        </p:blipFill>
        <p:spPr>
          <a:xfrm>
            <a:off x="7342200" y="2638440"/>
            <a:ext cx="353880" cy="284040"/>
          </a:xfrm>
          <a:prstGeom prst="rect">
            <a:avLst/>
          </a:prstGeom>
          <a:ln w="0">
            <a:noFill/>
          </a:ln>
        </p:spPr>
      </p:pic>
      <p:sp>
        <p:nvSpPr>
          <p:cNvPr id="60" name="Ellipse 19"/>
          <p:cNvSpPr/>
          <p:nvPr/>
        </p:nvSpPr>
        <p:spPr>
          <a:xfrm>
            <a:off x="7275600" y="2552760"/>
            <a:ext cx="477720" cy="488880"/>
          </a:xfrm>
          <a:prstGeom prst="ellips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891560" y="2620800"/>
            <a:ext cx="177840" cy="238320"/>
          </a:xfrm>
          <a:prstGeom prst="rect">
            <a:avLst/>
          </a:prstGeom>
          <a:ln w="0">
            <a:noFill/>
          </a:ln>
        </p:spPr>
      </p:pic>
      <p:sp>
        <p:nvSpPr>
          <p:cNvPr id="62" name="Gerade Verbindung 21"/>
          <p:cNvSpPr/>
          <p:nvPr/>
        </p:nvSpPr>
        <p:spPr>
          <a:xfrm>
            <a:off x="7753320" y="2757600"/>
            <a:ext cx="13824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Gerade Verbindung 23"/>
          <p:cNvSpPr/>
          <p:nvPr/>
        </p:nvSpPr>
        <p:spPr>
          <a:xfrm>
            <a:off x="7183440" y="2502000"/>
            <a:ext cx="158760" cy="11880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7093080" y="2406600"/>
            <a:ext cx="115920" cy="16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>
            <a:grayscl/>
          </a:blip>
          <a:srcRect l="18145" t="0" r="27419" b="0"/>
          <a:stretch/>
        </p:blipFill>
        <p:spPr>
          <a:xfrm>
            <a:off x="7499520" y="3139920"/>
            <a:ext cx="96840" cy="135000"/>
          </a:xfrm>
          <a:prstGeom prst="rect">
            <a:avLst/>
          </a:prstGeom>
          <a:ln w="0">
            <a:noFill/>
          </a:ln>
        </p:spPr>
      </p:pic>
      <p:sp>
        <p:nvSpPr>
          <p:cNvPr id="66" name="Gerade Verbindung 41"/>
          <p:cNvSpPr/>
          <p:nvPr/>
        </p:nvSpPr>
        <p:spPr>
          <a:xfrm flipH="1" flipV="1">
            <a:off x="7548120" y="3041280"/>
            <a:ext cx="1800" cy="9828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4"/>
          <p:cNvSpPr/>
          <p:nvPr/>
        </p:nvSpPr>
        <p:spPr>
          <a:xfrm>
            <a:off x="7027920" y="2008080"/>
            <a:ext cx="1112760" cy="129708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uppieren 67"/>
          <p:cNvGrpSpPr/>
          <p:nvPr/>
        </p:nvGrpSpPr>
        <p:grpSpPr>
          <a:xfrm>
            <a:off x="5000760" y="777960"/>
            <a:ext cx="780840" cy="1163520"/>
            <a:chOff x="5000760" y="777960"/>
            <a:chExt cx="780840" cy="1163520"/>
          </a:xfrm>
        </p:grpSpPr>
        <p:pic>
          <p:nvPicPr>
            <p:cNvPr id="69" name="Picture 6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5274360" y="1279080"/>
              <a:ext cx="2736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84"/>
            <p:cNvSpPr/>
            <p:nvPr/>
          </p:nvSpPr>
          <p:spPr>
            <a:xfrm>
              <a:off x="5000760" y="777960"/>
              <a:ext cx="780840" cy="11635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feld 61"/>
            <p:cNvSpPr/>
            <p:nvPr/>
          </p:nvSpPr>
          <p:spPr>
            <a:xfrm>
              <a:off x="5000760" y="777960"/>
              <a:ext cx="78084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7f7f7f"/>
                  </a:solidFill>
                  <a:latin typeface="Arial"/>
                  <a:ea typeface="Times New Roman"/>
                </a:rPr>
                <a:t>HIS Central 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feld 62"/>
          <p:cNvSpPr/>
          <p:nvPr/>
        </p:nvSpPr>
        <p:spPr>
          <a:xfrm>
            <a:off x="5835600" y="771480"/>
            <a:ext cx="781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Mambo 2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63"/>
          <p:cNvSpPr/>
          <p:nvPr/>
        </p:nvSpPr>
        <p:spPr>
          <a:xfrm>
            <a:off x="6692760" y="771480"/>
            <a:ext cx="781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HIS Por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64"/>
          <p:cNvSpPr/>
          <p:nvPr/>
        </p:nvSpPr>
        <p:spPr>
          <a:xfrm>
            <a:off x="7505640" y="771480"/>
            <a:ext cx="78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1" i="1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ello!</a:t>
            </a:r>
            <a:r>
              <a:rPr b="0" i="1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Video Con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66"/>
          <p:cNvSpPr/>
          <p:nvPr/>
        </p:nvSpPr>
        <p:spPr>
          <a:xfrm>
            <a:off x="7000920" y="2003400"/>
            <a:ext cx="11635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Environmental and Bi-directional Mon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7068960" y="2962440"/>
            <a:ext cx="162000" cy="19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7939080" y="3016080"/>
            <a:ext cx="101520" cy="228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0"/>
          <a:stretch/>
        </p:blipFill>
        <p:spPr>
          <a:xfrm>
            <a:off x="7812000" y="2406600"/>
            <a:ext cx="165240" cy="166680"/>
          </a:xfrm>
          <a:prstGeom prst="rect">
            <a:avLst/>
          </a:prstGeom>
          <a:ln w="0">
            <a:noFill/>
          </a:ln>
        </p:spPr>
      </p:pic>
      <p:sp>
        <p:nvSpPr>
          <p:cNvPr id="79" name="Gerade Verbindung 71"/>
          <p:cNvSpPr/>
          <p:nvPr/>
        </p:nvSpPr>
        <p:spPr>
          <a:xfrm flipV="1">
            <a:off x="7205760" y="2962440"/>
            <a:ext cx="136440" cy="6984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Gerade Verbindung 74"/>
          <p:cNvSpPr/>
          <p:nvPr/>
        </p:nvSpPr>
        <p:spPr>
          <a:xfrm flipH="1" flipV="1">
            <a:off x="7725960" y="2912760"/>
            <a:ext cx="212760" cy="12852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Gerade Verbindung 80"/>
          <p:cNvSpPr/>
          <p:nvPr/>
        </p:nvSpPr>
        <p:spPr>
          <a:xfrm flipH="1">
            <a:off x="7696080" y="2552760"/>
            <a:ext cx="115920" cy="8568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http://www.falcom.de/typo3temp/pics/6f174c8779.jpg"/>
          <p:cNvPicPr/>
          <p:nvPr/>
        </p:nvPicPr>
        <p:blipFill>
          <a:blip r:embed="rId11"/>
          <a:stretch/>
        </p:blipFill>
        <p:spPr>
          <a:xfrm>
            <a:off x="5959440" y="1109520"/>
            <a:ext cx="574560" cy="71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8"/>
          <p:cNvSpPr/>
          <p:nvPr/>
        </p:nvSpPr>
        <p:spPr>
          <a:xfrm>
            <a:off x="5630760" y="2008080"/>
            <a:ext cx="12049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6"/>
          <p:cNvSpPr/>
          <p:nvPr/>
        </p:nvSpPr>
        <p:spPr>
          <a:xfrm>
            <a:off x="5092560" y="3519360"/>
            <a:ext cx="3770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 algn="just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  <a:ea typeface="Times New Roman"/>
              </a:rPr>
              <a:t>Monitoring and Alarm Handl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Fixed Control Unit protecting the house even when the inhabitants are a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ollection of data from sen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Local processing and transmission towards the Por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Mobile Unit following the elderly persons wherever they 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ellular 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Fall de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Absence of motion de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GPS positio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Por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User account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Collection, analysis and visualisation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Automatic alarm hand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80"/>
              </a:buClr>
              <a:buFont typeface="Symbol" charset="2"/>
              <a:buChar char="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Remote configuration of all peripheral de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Vital parameter monitors. </a:t>
            </a:r>
            <a:r>
              <a:rPr b="0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One-touch, self-check devices selected according to existing pathologies/health ris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Environmental sensors (movement, smoke, temperature-humidity,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Inclus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buClr>
                <a:srgbClr val="000080"/>
              </a:buClr>
              <a:buFont typeface="Arial"/>
              <a:buChar char="•"/>
              <a:tabLst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80"/>
                </a:solidFill>
                <a:latin typeface="Arial"/>
                <a:ea typeface="Times New Roman"/>
              </a:rPr>
              <a:t>Videoconferencing service specifically designed for elderly users not acquainted with I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tabLst>
                <a:tab algn="l" pos="0"/>
                <a:tab algn="l" pos="457200"/>
                <a:tab algn="l" pos="2523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8"/>
          <p:cNvSpPr/>
          <p:nvPr/>
        </p:nvSpPr>
        <p:spPr>
          <a:xfrm>
            <a:off x="357120" y="246744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y-f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d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rm handling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i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Grafik 10" descr="Bild mit Mensch.bmp"/>
          <p:cNvPicPr/>
          <p:nvPr/>
        </p:nvPicPr>
        <p:blipFill>
          <a:blip r:embed="rId12">
            <a:grayscl/>
          </a:blip>
          <a:stretch/>
        </p:blipFill>
        <p:spPr>
          <a:xfrm>
            <a:off x="5724360" y="2133720"/>
            <a:ext cx="944640" cy="1039680"/>
          </a:xfrm>
          <a:prstGeom prst="rect">
            <a:avLst/>
          </a:prstGeom>
          <a:ln w="0">
            <a:noFill/>
          </a:ln>
        </p:spPr>
      </p:pic>
      <p:sp>
        <p:nvSpPr>
          <p:cNvPr id="87" name="Textfeld 65"/>
          <p:cNvSpPr/>
          <p:nvPr/>
        </p:nvSpPr>
        <p:spPr>
          <a:xfrm>
            <a:off x="5788080" y="2038320"/>
            <a:ext cx="9414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7f7f7f"/>
                </a:solidFill>
                <a:latin typeface="Arial"/>
                <a:ea typeface="Times New Roman"/>
              </a:rPr>
              <a:t>Vital Mon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3"/>
          <a:stretch/>
        </p:blipFill>
        <p:spPr>
          <a:xfrm>
            <a:off x="7572240" y="1143000"/>
            <a:ext cx="9590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02:57Z</dcterms:created>
  <dc:creator>Graziella d'Angelantonio</dc:creator>
  <dc:description/>
  <dc:language>en-US</dc:language>
  <cp:lastModifiedBy>Marco d'Angelantonio</cp:lastModifiedBy>
  <dcterms:modified xsi:type="dcterms:W3CDTF">2008-12-02T09:33:25Z</dcterms:modified>
  <cp:revision>14</cp:revision>
  <dc:subject/>
  <dc:title>Slide 1</dc:title>
</cp:coreProperties>
</file>